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BB8B8-C91B-4DAC-9174-3895A1ACE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9D3DD-7035-43E1-ABC7-E35FAECD7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C6879-10B4-437C-9D2C-2164DD602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3E49F-2FF8-4418-8EF6-C4CE431DC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197A3-F646-42AF-9228-89BF383A0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CCC49-00A8-4A1B-82D4-EC852A591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0D8F8-5798-4B38-ABCD-7478ED426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B3435-6127-4DE8-8B76-030BEF034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10BBD-4C79-4427-BF64-2AF7D03DB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1E161-6866-40CF-971C-81D84D310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87669-E9CB-4872-8778-861B1E6CC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0188E-8527-4B10-B805-C08EB558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86E58-1C53-4E2D-8F79-1800B7D6F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AF0D9-C602-44B9-95E1-D846CD12C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D2D77-A404-45AB-8B7F-82D109D68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9452A-1B04-42BC-9F68-13148E911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EE549-17BB-4DBA-A487-D4632E2EC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2B84D3-0B49-42FA-B405-F862157FA8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E567D-FBA7-4A67-9E7D-0EA852FD3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E9C20-B99C-4F8D-BD9A-05A2109C0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B510ED-914D-4CAF-87DF-88E3AAAE0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1D4DB-D588-4F67-B307-17041EC36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A7D1-FA2D-4902-8CBF-215D4C434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9C8EE-B912-4389-8A72-7E7959E60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7901C-AB07-456D-897E-FECEC0C89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D2FC4-445A-4E5F-AB2D-9C83328A7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B3461A-D248-4E21-86EF-DD3EBD688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A6EC3-1D18-4BC8-A96A-871F84FDB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F021F2-B3A7-4A01-AB5A-A2DE27143D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BA5BB3-1CCD-45FC-BFFD-A97E1E0AC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AD4C5F-DBC8-4F91-B10F-6AE89D2815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87483D-888D-4753-996C-975F153AA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6AED5A-A746-4A2D-9063-6274F0DE1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1E6F-E32F-489B-9933-AD5A40DD2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5E1346-B147-4FA6-B1EC-FD4D3EE1D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442DD-052A-4E3F-930E-C25B56703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9DADB-7498-4107-8EC1-7D8E6D523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34B67-4EFC-44FE-9118-F9FA6B9F3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394A5-8796-4E01-BBF6-990A2FA4E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8A373-5D03-45E1-BFEE-58A489501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2A9FC-BB4F-402F-BA43-BB09170190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CD3900-5827-4A31-AEFE-DC02375FD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AFE8B4-8785-471D-BC71-89A9AC2B8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CDB96-D162-4AD6-A7BC-AA18C584B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D281-0B84-4FE1-83DB-670784E1D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B59D2-9043-4D19-B51A-D638866E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41A84-33A5-4255-B0FA-EF9E597E8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8645-EE23-40AC-A2D6-2068D53A9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CDDED-7168-4C5D-AA7D-AE8EEB0B9111}"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D601F-1690-48CA-9CF6-432E680F6D56}"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E82A3-3FB9-4829-B49E-925B730EB4EB}"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84127-D5AE-4198-9A5A-791943030557}"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6" name=""/>
          <p:cNvSpPr txBox="1"/>
          <p:nvPr/>
        </p:nvSpPr>
        <p:spPr>
          <a:xfrm>
            <a:off x="0" y="1847520"/>
            <a:ext cx="9144000" cy="50101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Droit du travail </a:t>
            </a:r>
            <a:endParaRPr b="0" lang="en-US" sz="44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   </a:t>
            </a:r>
            <a:r>
              <a:rPr b="1" lang="fr-FR" sz="3600" spc="-1" strike="noStrike">
                <a:solidFill>
                  <a:srgbClr val="000000"/>
                </a:solidFill>
                <a:latin typeface="Times New Roman"/>
                <a:ea typeface="Times New Roman"/>
              </a:rPr>
              <a:t>Séance 7</a:t>
            </a:r>
            <a:endParaRPr b="0" lang="en-US" sz="3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Kamal LAGTATI </a:t>
            </a:r>
            <a:br>
              <a:rPr sz="1600"/>
            </a:br>
            <a:r>
              <a:rPr b="1" lang="fr-FR" sz="1600" spc="-1" strike="noStrike">
                <a:solidFill>
                  <a:srgbClr val="000000"/>
                </a:solidFill>
                <a:latin typeface="Times New Roman"/>
                <a:ea typeface="Times New Roman"/>
              </a:rPr>
              <a:t>Enseignant chercheur </a:t>
            </a:r>
            <a:br>
              <a:rPr sz="1600"/>
            </a:br>
            <a:r>
              <a:rPr b="1" lang="fr-FR" sz="1600" spc="-1" strike="noStrike">
                <a:solidFill>
                  <a:srgbClr val="000000"/>
                </a:solidFill>
                <a:latin typeface="Times New Roman"/>
                <a:ea typeface="Times New Roman"/>
              </a:rPr>
              <a:t>EST Lâayoune </a:t>
            </a:r>
            <a:endParaRPr b="0" lang="en-US" sz="1600" spc="-1" strike="noStrike">
              <a:solidFill>
                <a:srgbClr val="000000"/>
              </a:solidFill>
              <a:latin typeface="Constantia"/>
            </a:endParaRPr>
          </a:p>
        </p:txBody>
      </p:sp>
      <p:pic>
        <p:nvPicPr>
          <p:cNvPr id="197"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5" name=""/>
          <p:cNvSpPr txBox="1"/>
          <p:nvPr/>
        </p:nvSpPr>
        <p:spPr>
          <a:xfrm>
            <a:off x="0" y="1206000"/>
            <a:ext cx="9144000" cy="56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Consultation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rtaines décisions ne peuvent être prises qu’après consultation des représentants des syndicats</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écupération des heures de travail perdues</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Fixation des dates des congés annuels</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apport des services médicaux de l’entreprise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articipation dans la composition du CSH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765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199" name=""/>
          <p:cNvSpPr txBox="1"/>
          <p:nvPr/>
        </p:nvSpPr>
        <p:spPr>
          <a:xfrm>
            <a:off x="0" y="1158480"/>
            <a:ext cx="9144000" cy="5729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Les délégués des salariés </a:t>
            </a:r>
            <a:r>
              <a:rPr b="0" lang="fr-FR" sz="2400" spc="-1" strike="noStrike">
                <a:solidFill>
                  <a:srgbClr val="000000"/>
                </a:solidFill>
                <a:latin typeface="Constantia"/>
              </a:rPr>
              <a: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Défini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C’est une institution représentative des salariés, chargée de    défendre leurs intérêts.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st une institution obligatoire lorsque l’effectif de l’établissement atteint 10 salariés.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st une institution qui </a:t>
            </a:r>
            <a:r>
              <a:rPr b="0" lang="fr-FR" sz="2400" spc="-1" strike="noStrike" u="sng">
                <a:solidFill>
                  <a:srgbClr val="ff0000"/>
                </a:solidFill>
                <a:uFillTx/>
                <a:latin typeface="Constantia"/>
              </a:rPr>
              <a:t>n’a pas de personnalité morale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Attributions</a:t>
            </a:r>
            <a:r>
              <a:rPr b="0" lang="fr-FR" sz="2400" spc="-1" strike="noStrike">
                <a:solidFill>
                  <a:srgbClr val="000000"/>
                </a:solidFill>
                <a:latin typeface="Constantia"/>
              </a:rPr>
              <a:t>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Réclamations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DP présentent au chef d’entreprise les réclamations qui n’auraient pas été satisfaites. Leur intervention ne serait ni concevable ni recevable que si le salarié avait déjà présenté ses réclamations directement à l’employeur.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1" name=""/>
          <p:cNvSpPr txBox="1"/>
          <p:nvPr/>
        </p:nvSpPr>
        <p:spPr>
          <a:xfrm>
            <a:off x="0" y="1387440"/>
            <a:ext cx="91440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Communication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rtaines décisions de l’employeur doivent être communiquées aux DP :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icenciement collectif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èglement intérieur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Aménagement du temps de travail : répartition de la durée annuelle globale de travail sur l’année.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éduction du temps de travai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icats professionnels et Représentants de personnel </a:t>
            </a:r>
            <a:endParaRPr b="0" lang="en-US" sz="3600" spc="-1" strike="noStrike">
              <a:solidFill>
                <a:srgbClr val="04617b"/>
              </a:solidFill>
              <a:latin typeface="Calibri"/>
            </a:endParaRPr>
          </a:p>
        </p:txBody>
      </p:sp>
      <p:sp>
        <p:nvSpPr>
          <p:cNvPr id="203" name=""/>
          <p:cNvSpPr txBox="1"/>
          <p:nvPr/>
        </p:nvSpPr>
        <p:spPr>
          <a:xfrm>
            <a:off x="0" y="1387440"/>
            <a:ext cx="91440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3- Consultation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rtaines décisions ne peuvent être prises avant de consulter les DP</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Récupération des heures de travail perdues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dates des congés annuels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Envoi du rapport des services médicaux d’entreprise</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Participation dans la composition du CSH.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Moyens d’ac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Temps libre </a:t>
            </a:r>
            <a:r>
              <a:rPr b="0" lang="fr-FR" sz="2400" spc="-1" strike="noStrike">
                <a:solidFill>
                  <a:srgbClr val="000000"/>
                </a:solidFill>
                <a:latin typeface="Constantia"/>
              </a:rPr>
              <a:t>: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chef d’établissement est tenu de laisser au DP le temps nécessaire à l’accomplissement de sa mission. Ce temps ne peut dépasser 15h par moi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0972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5" name=""/>
          <p:cNvSpPr txBox="1"/>
          <p:nvPr/>
        </p:nvSpPr>
        <p:spPr>
          <a:xfrm>
            <a:off x="0" y="1250640"/>
            <a:ext cx="9144000" cy="5607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Collecte des informations </a:t>
            </a:r>
            <a:r>
              <a:rPr b="0" lang="fr-FR" sz="2400" spc="-1" strike="noStrike">
                <a:solidFill>
                  <a:srgbClr val="000000"/>
                </a:solidFill>
                <a:latin typeface="Constantia"/>
              </a:rPr>
              <a:t>:</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DP a le droit de se déplacer dans l’entreprise et de prendre contact avec les salariés afin de s’informer sur la nature des réclamations éventuelle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ommunication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DP peuvent afficher des renseignements et distribuer des tracts à condition qu’ils n’aient pas un caractère politique, syndical ou diffamatoire.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Protec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Tout changement de service, Toute décision de mise à pied ou tout licenciement suppose l’accord de l’agent chargé de l’inspection du travail.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52240"/>
            <a:ext cx="8229600" cy="834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7" name=""/>
          <p:cNvSpPr txBox="1"/>
          <p:nvPr/>
        </p:nvSpPr>
        <p:spPr>
          <a:xfrm>
            <a:off x="0" y="1387440"/>
            <a:ext cx="91440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Comité d’entreprise </a:t>
            </a:r>
            <a:r>
              <a:rPr b="0" lang="fr-FR" sz="2400" spc="-1" strike="noStrike">
                <a:solidFill>
                  <a:srgbClr val="000000"/>
                </a:solidFill>
                <a:latin typeface="Constantia"/>
              </a:rPr>
              <a: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Défini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a:t>
            </a:r>
            <a:r>
              <a:rPr b="0" lang="is-IS" sz="2400" spc="-1" strike="noStrike">
                <a:solidFill>
                  <a:srgbClr val="000000"/>
                </a:solidFill>
                <a:latin typeface="Constantia"/>
              </a:rPr>
              <a:t> </a:t>
            </a:r>
            <a:r>
              <a:rPr b="0" lang="fr-FR" sz="2400" spc="-1" strike="noStrike">
                <a:solidFill>
                  <a:srgbClr val="000000"/>
                </a:solidFill>
                <a:latin typeface="Constantia"/>
              </a:rPr>
              <a:t>est un conseil qui assure la gestion et le contrôle des activités de l’entreprise.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C’est une institution obligatoire dans les entreprises occupant au moins 50 salariés</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C’est une institution composée du chef d’entreprise, en qualité de président et deux membres ayant la qualité de délégué du personnel.</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C’est une institution qui </a:t>
            </a:r>
            <a:r>
              <a:rPr b="0" lang="fr-FR" sz="2400" spc="-1" strike="noStrike" u="sng">
                <a:solidFill>
                  <a:srgbClr val="ff0000"/>
                </a:solidFill>
                <a:uFillTx/>
                <a:latin typeface="Constantia"/>
              </a:rPr>
              <a:t>n’a pas de personnalité morale</a:t>
            </a:r>
            <a:r>
              <a:rPr b="0" lang="fr-FR" sz="2400" spc="-1" strike="noStrike">
                <a:solidFill>
                  <a:srgbClr val="000000"/>
                </a:solidFill>
                <a:latin typeface="Constantia"/>
              </a:rPr>
              <a:t>.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9" name=""/>
          <p:cNvSpPr txBox="1"/>
          <p:nvPr/>
        </p:nvSpPr>
        <p:spPr>
          <a:xfrm>
            <a:off x="0" y="1387440"/>
            <a:ext cx="91440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Attributions</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CE est chargé d’examiner et de rendre son avis sur :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transformations structurelles et technologiques à effectuer dans l’entreprise.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bilan social de l’entreprise lors de son approbation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stratégie de production de l’entreprise et les moyens d’augmenter la rentabilité</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élaboration de projets sociaux au profit des salariés et leur mise en exécution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programmes d’apprentissage, de formation-insertion, de lutte contre l’analphabétisme et de formation continue des salarié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1" name=""/>
          <p:cNvSpPr txBox="1"/>
          <p:nvPr/>
        </p:nvSpPr>
        <p:spPr>
          <a:xfrm>
            <a:off x="0" y="1206000"/>
            <a:ext cx="9144000" cy="5651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Représentants des syndicats dans l’entreprise </a:t>
            </a:r>
            <a:r>
              <a:rPr b="0" lang="fr-FR" sz="2400" spc="-1" strike="noStrike">
                <a:solidFill>
                  <a:srgbClr val="000000"/>
                </a:solidFill>
                <a:latin typeface="Constantia"/>
              </a:rPr>
              <a:t>: (</a:t>
            </a:r>
            <a:r>
              <a:rPr b="1" lang="fr-FR" sz="2400" spc="-1" strike="noStrike">
                <a:solidFill>
                  <a:srgbClr val="000000"/>
                </a:solidFill>
                <a:latin typeface="Constantia"/>
              </a:rPr>
              <a:t>Le bureau syndical</a:t>
            </a:r>
            <a:r>
              <a:rPr b="0" lang="fr-FR" sz="2400" spc="-1" strike="noStrike">
                <a:solidFill>
                  <a:srgbClr val="000000"/>
                </a:solidFill>
                <a:latin typeface="Constantia"/>
              </a:rPr>
              <a:t>)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Définition</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est institué auprès des entreprises  : </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qui occupent plus de 100 salariés</a:t>
            </a:r>
            <a:endParaRPr b="0" lang="en-US" sz="2400" spc="-1" strike="noStrike">
              <a:solidFill>
                <a:srgbClr val="000000"/>
              </a:solidFill>
              <a:latin typeface="Constantia"/>
            </a:endParaRPr>
          </a:p>
          <a:p>
            <a:pPr>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où il existe un ou plusieurs syndicats</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y a deux conditions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être le syndicat le plus représentatif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ayant obtenu le plus grand nombre de voix lors des dernières élections législativ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3" name=""/>
          <p:cNvSpPr txBox="1"/>
          <p:nvPr/>
        </p:nvSpPr>
        <p:spPr>
          <a:xfrm>
            <a:off x="0" y="1206000"/>
            <a:ext cx="9144000" cy="56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nstantia"/>
              </a:rPr>
              <a:t>Attributions</a:t>
            </a:r>
            <a:r>
              <a:rPr b="0" lang="fr-FR" sz="2400" spc="-1" strike="noStrike">
                <a:solidFill>
                  <a:srgbClr val="000000"/>
                </a:solidFill>
                <a:latin typeface="Constantia"/>
              </a:rPr>
              <a:t>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Communication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ertaines décisions de l’employeur doivent être communiquées aux représentants des syndicat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licenciement pour motifs technologiques, structurels et économiques.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Établissement d’un RI </a:t>
            </a:r>
            <a:endParaRPr b="0" lang="en-US" sz="2400" spc="-1" strike="noStrike">
              <a:solidFill>
                <a:srgbClr val="000000"/>
              </a:solidFill>
              <a:latin typeface="Constantia"/>
            </a:endParaRPr>
          </a:p>
          <a:p>
            <a:pPr algn="just">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Aménagement du temps du travail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Réduction du temps de travail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18:50:53Z</dcterms:created>
  <dc:creator>Houda Sargeane</dc:creator>
  <dc:description/>
  <dc:language>en-US</dc:language>
  <cp:lastModifiedBy>user</cp:lastModifiedBy>
  <dcterms:modified xsi:type="dcterms:W3CDTF">2020-04-26T03:20:06Z</dcterms:modified>
  <cp:revision>185</cp:revision>
  <dc:subject/>
  <dc:title>Définition </dc:title>
</cp:coreProperties>
</file>